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639-C002-4E4C-B742-87F69F0E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93B-5DD9-45AE-8A8B-8C84C090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BB3-23BD-4A8E-A666-0B71A4B7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CE4-D8B8-4829-9910-8BC570C8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E3E-C78B-4AE8-B108-E589CD0F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968-F811-45D5-A96C-347D5BB1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E19-B62B-4193-982A-0EDD19B9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49F-6819-4CD7-BEB4-F55D76A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18C-DD37-4CBE-A37E-65493C24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2DE-B989-47E8-B285-2E2C42D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865-49BF-4082-AD45-7C025421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DF9-105A-4202-8529-219454E2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9D33-2626-427D-B2A3-E1511506CD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FLUENCE AND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040" y="38862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38760" cy="399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0" y="3990960"/>
            <a:ext cx="4292640" cy="286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4292640" y="3803760"/>
            <a:ext cx="4851360" cy="30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 rot="16200000">
            <a:off x="5539320" y="199080"/>
            <a:ext cx="38037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man and the Fair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r Deal attempted to expand New De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dical Insurance for all America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vived and strengthened Fair Employment Practices Commission (FEPC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ederal aid to educ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irit of reform waned in postwar years (Apathetic Publi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eneva"/>
              </a:rPr>
              <a:t>Dixiecrats split democratic party over civil rights re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r Deal failed but set the agenda for future attempts to expand New De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isenhower's Modern Republican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01920" y="22096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isenhower left New Deal i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aised minimum wage and expanded Social Secur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ated Department of Health, Education, and Welfa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6: Highway Act created interstate highway syste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imulated the econom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aped metropolitan growth patter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all Eisenhower years were politically mode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IVI7233641"/>
          <p:cNvPicPr/>
          <p:nvPr/>
        </p:nvPicPr>
        <p:blipFill>
          <a:blip r:embed="rId2"/>
          <a:stretch/>
        </p:blipFill>
        <p:spPr>
          <a:xfrm>
            <a:off x="228600" y="2133720"/>
            <a:ext cx="47512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war Prospe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45–1960: Rapid economic grow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lder industries will suffer (steel, agriculture, etc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ssion hits by end of 50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in Defense Spen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i to consumer goods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by bo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shift to subur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in capital spen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portun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Geneva"/>
              </a:rPr>
              <a:t>GI Bill 19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Geneva"/>
              </a:rPr>
              <a:t>Employment Act 194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DIVI618"/>
          <p:cNvPicPr/>
          <p:nvPr/>
        </p:nvPicPr>
        <p:blipFill>
          <a:blip r:embed="rId2"/>
          <a:stretch/>
        </p:blipFill>
        <p:spPr>
          <a:xfrm>
            <a:off x="4648320" y="1676520"/>
            <a:ext cx="41828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umerism the dominant social theme of the 1950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burbia inhabited by middle clas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significant social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endence on the automob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mily together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anxiety and dissatisfa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in the workplace stimulates new femin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eas of Greatest Grow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urch membership boo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hool attendance (federal aid to focus on math and science/Sputni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levision watch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itics of the Consumer Socie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“Beat” movement were artists and authors (ex: David Riesman) criticizing the conformity of suburban corporate 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4:29:03Z</dcterms:created>
  <dc:creator>CMU</dc:creator>
  <dc:description/>
  <cp:keywords/>
  <dc:language>en-US</dc:language>
  <cp:lastModifiedBy>Thaddeus J. Brooks</cp:lastModifiedBy>
  <cp:lastPrinted>2012-04-19T01:07:11Z</cp:lastPrinted>
  <dcterms:modified xsi:type="dcterms:W3CDTF">2013-10-28T14:20:18Z</dcterms:modified>
  <cp:revision>37</cp:revision>
  <dc:subject/>
  <dc:title>CHAPTER 29 AFFLUENCE AND ANXIETY: FROM THE FAIR DEAL TO THE GREAT SOCIETY</dc:title>
</cp:coreProperties>
</file>